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4000" spc="-1" strike="noStrike">
                <a:solidFill>
                  <a:srgbClr val="99284c"/>
                </a:solidFill>
                <a:latin typeface="Arial"/>
              </a:rPr>
              <a:t>                  </a:t>
            </a:r>
            <a:r>
              <a:rPr b="1" i="1" lang="fi-FI" sz="4000" spc="-1" strike="noStrike">
                <a:solidFill>
                  <a:srgbClr val="99284c"/>
                </a:solidFill>
                <a:latin typeface="Arial"/>
              </a:rPr>
              <a:t>Parro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58118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are birds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are red, yellow, blue,..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have got wings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can fly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live in the sky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41400"/>
            <a:ext cx="907092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fi-FI" sz="4000" spc="-1" strike="noStrike">
                <a:solidFill>
                  <a:srgbClr val="99284c"/>
                </a:solidFill>
                <a:latin typeface="Arial"/>
              </a:rPr>
              <a:t>Live in  </a:t>
            </a:r>
            <a:br>
              <a:rPr sz="4000"/>
            </a:b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765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Parrots eat plants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</a:rPr>
              <a:t>The parrot live in tropical southern hemisphere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57240" y="2138400"/>
            <a:ext cx="38386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4000" spc="-1" strike="noStrike">
                <a:solidFill>
                  <a:srgbClr val="99284c"/>
                </a:solidFill>
                <a:latin typeface="Arial"/>
              </a:rPr>
              <a:t>Como s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1955520"/>
            <a:ext cx="841860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99284c"/>
                </a:solidFill>
                <a:latin typeface="Arial"/>
              </a:rPr>
              <a:t>Parrots repeat what their owners say  or when you say something </a:t>
            </a: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2240" y="2138400"/>
            <a:ext cx="41068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333333"/>
                </a:solidFill>
                <a:latin typeface="Arial"/>
              </a:rPr>
              <a:t>such as hello they'll repeat. The most common ones are parrots that are green and red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468000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  <a:ea typeface="Arial"/>
              </a:rPr>
              <a:t>Parrot live in packs  with macaws, cockato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1880" y="2138400"/>
            <a:ext cx="8418600" cy="4989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60360" y="3780000"/>
            <a:ext cx="6120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4000" spc="-1" strike="noStrike">
                <a:solidFill>
                  <a:srgbClr val="99284c"/>
                </a:solidFill>
                <a:latin typeface="Arial"/>
              </a:rPr>
              <a:t>By Pablo S., Andrés, Zaira, Sandra and Laura S. F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0:56:04Z</dcterms:created>
  <dc:creator/>
  <dc:description/>
  <dc:language>en-US</dc:language>
  <cp:lastModifiedBy/>
  <dcterms:modified xsi:type="dcterms:W3CDTF">2010-06-03T10:27:38Z</dcterms:modified>
  <cp:revision>8</cp:revision>
  <dc:subject/>
  <dc:title/>
</cp:coreProperties>
</file>